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7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2.png" ContentType="image/png"/>
  <Override PartName="/ppt/media/image28.png" ContentType="image/png"/>
  <Override PartName="/ppt/media/image8.jpeg" ContentType="image/jpeg"/>
  <Override PartName="/ppt/media/image9.png" ContentType="image/png"/>
  <Override PartName="/ppt/media/image34.png" ContentType="image/png"/>
  <Override PartName="/ppt/media/image13.png" ContentType="image/png"/>
  <Override PartName="/ppt/media/image33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95ED-150D-428F-ABFD-846F42C1D97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E031-BF8A-4150-B73B-29CB0AA6E79B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403-995F-45AF-8565-701F78E8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0D0-11B0-4D86-A720-C6E17C2D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321D-FE86-4257-B53E-41D8AFAF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92A-FAAA-488D-9ECF-681ABFB8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6CEA-89FB-4607-901E-A0F02560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58C5-1040-42EE-808B-EA08BA45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8420-BEBD-4FAD-9380-AC11CE2B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289C-1804-4D40-A044-D94E3EA4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6C3C-2FA2-423B-9058-DDFFD087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8C5C-8C02-46AA-BDA1-4F002A4F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253C-699A-42BD-B80F-CA6EC381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2FBA-8044-40A6-B8AE-957A9A8E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427A-2F65-4424-A595-153107BD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92D7-767F-4ECA-8955-2F1FEF9B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BFBD-E973-4CC5-B459-D3C9D0D5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0336-8A02-4457-B1CE-0B801630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E1C6-7642-4B99-8755-F0EDE1D9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75AAD-485C-4FA7-9E11-15C57942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1EAF7-C1E1-4475-8869-B5BFE39A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D958B-BE29-4438-BC8F-BEB487F2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F308-5D67-40F0-BF2E-89B2C28E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E6A15-B8B8-4464-AC26-3D92CD83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AE44-A2ED-4BB2-A2DF-7674C1BE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128D8-197E-4E16-890E-4D476E57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C227-6D7D-45F2-BE30-AF292BB9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3F08E-BB7B-4074-9FCC-108C87F8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CE50C-D789-4EA4-B2B6-29557664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4E855-87D2-4C42-BA8D-0E82C090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44A0B-2EA8-470C-B683-A002B5DB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9C078-72FF-4C33-81BC-F4CFE12C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94388-8AB7-4F5E-9D9C-D1084425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97F2F-841C-4907-8666-AEA87471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0AEB4-78FF-48F4-93CC-2D028280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6FB-35C2-4EA4-BCEC-892C7AB7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E7F6B-CCFA-44FA-B102-7DA0FCEE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00323-3DF7-4E64-8917-268DB699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1A905-862B-4A87-9E90-B8C8D6D2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6AA66-87E4-4E92-8DAE-DD200755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271F0-1E63-4F75-BA2C-AA67E1CE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58F4B-CDC8-41C4-9864-2F8F8A2B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8CAF5-1B30-4DB4-BBD8-6AC5880C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1D223-3C6C-4B43-8414-9E616511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6E487-37FC-4B16-AB37-987A90B5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37774-BB18-4F22-9E8E-FBBDE117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90BD-21F8-47AB-9F5D-BC540897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50D38-1009-49C5-ABB4-7362C396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25BBA-12C9-4A9E-8303-7281FBE7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862DE-3518-4DBE-999A-C29272A1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2462C-657C-4EC3-A22C-E366A41C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41617-5E52-4E6C-841D-64411D00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7C66A-3C75-4ADA-8A75-447BB4A1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0BE86-5189-4AA6-9FD0-01A86B37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25578-1255-45B1-823F-C51B6D9B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98F5E-70C8-4520-92FF-F7694D96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B70BE-4933-46A9-9AC4-65FD2BBE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8C0F-47B0-4E0C-B9B7-6ADF259C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AF317-ED5A-4603-AA9F-27A72903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26F49-06C4-45C6-BB2D-4A0CD8E1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2E338-14D7-467F-A7FD-C39A0A2F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9044C-3E1A-48E3-9A32-11554E04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88A7E-AE87-4C5E-8581-579D903E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B37D4-F334-4379-869F-E62B36B6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F5A34-505E-45EC-BC55-6F154B7A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B315C-3D24-4A0B-AF62-711F8AC0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0D5EF-EE49-4E2D-B113-9483E275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13EC8-B6D3-444C-8C87-9A85F759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9A8-8942-4550-A566-29D3F7A5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82B33-B1C5-48EC-BD6D-653D213C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4C78A-D2BA-405E-9169-CBB4B413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A665D-71E9-41E6-B5F1-4469331F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4660C-5977-470B-8B10-5F75C879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4C4B8-578C-42DC-AFF7-293F01CF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7FE62-6071-47F2-A290-D809E8E9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9E1C3-D688-489C-B2AB-912B1E9D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F0954-19F7-4811-A1E8-E46241A8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799B0-1AB9-4BD0-AE5B-4D8C2A9D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29309-5C08-42D6-9FA3-9EA7AB91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4362-037C-4A06-99AB-F567113F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83AF5-055E-4EAD-928F-EE53A81D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C7BC5-F29B-4111-B6E5-CC2A5BF6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B30FF-01AB-43EF-9D6F-9E4B91FE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220FF-44DA-435B-9119-5610926F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C3991-CC34-4774-8FE2-ED4F9AD5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711-C660-4ECC-AF38-A6A6DEDE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78DB-F761-4FAD-925C-3BB36D64477F}" type="slidenum">
              <a:rPr b="0" lang="en-N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51A8-1C15-4304-8AFA-8156C7358A47}" type="slidenum">
              <a:rPr b="0" lang="en-NZ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D8C3-86DF-43FC-A07D-8953735F4543}" type="slidenum">
              <a:rPr b="0" lang="en-N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CC9F-F65F-4D38-A3F0-6B18C2ABDA3D}" type="slidenum">
              <a:rPr b="0" lang="en-NZ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6A1D-D9F9-441B-BFCE-5B8BB2320A25}" type="slidenum">
              <a:rPr b="0" lang="en-N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59D3-3F55-4430-89ED-6E06348803D1}" type="slidenum">
              <a:rPr b="0" lang="en-NZ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638D-966B-4473-83D7-173723B3A41B}" type="slidenum">
              <a:rPr b="0" lang="en-NZ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3" descr=""/>
          <p:cNvPicPr/>
          <p:nvPr/>
        </p:nvPicPr>
        <p:blipFill>
          <a:blip r:embed="rId1"/>
          <a:stretch/>
        </p:blipFill>
        <p:spPr>
          <a:xfrm>
            <a:off x="682560" y="334800"/>
            <a:ext cx="8156520" cy="209088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4" descr=""/>
          <p:cNvPicPr/>
          <p:nvPr/>
        </p:nvPicPr>
        <p:blipFill>
          <a:blip r:embed="rId2"/>
          <a:stretch/>
        </p:blipFill>
        <p:spPr>
          <a:xfrm>
            <a:off x="2365200" y="1298520"/>
            <a:ext cx="4469040" cy="1236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basil.jpg"/>
          <p:cNvPicPr/>
          <p:nvPr/>
        </p:nvPicPr>
        <p:blipFill>
          <a:blip r:embed="rId3"/>
          <a:stretch/>
        </p:blipFill>
        <p:spPr>
          <a:xfrm>
            <a:off x="500040" y="1928880"/>
            <a:ext cx="2286000" cy="3468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moscow building.jpg"/>
          <p:cNvPicPr/>
          <p:nvPr/>
        </p:nvPicPr>
        <p:blipFill>
          <a:blip r:embed="rId4"/>
          <a:stretch/>
        </p:blipFill>
        <p:spPr>
          <a:xfrm>
            <a:off x="6429240" y="17859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st basils catherdral.jpg"/>
          <p:cNvPicPr/>
          <p:nvPr/>
        </p:nvPicPr>
        <p:blipFill>
          <a:blip r:embed="rId5"/>
          <a:stretch/>
        </p:blipFill>
        <p:spPr>
          <a:xfrm>
            <a:off x="2928960" y="2357280"/>
            <a:ext cx="328608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xplosion 2 3"/>
          <p:cNvSpPr/>
          <p:nvPr/>
        </p:nvSpPr>
        <p:spPr>
          <a:xfrm>
            <a:off x="1285920" y="1143000"/>
            <a:ext cx="6643800" cy="5357880"/>
          </a:xfrm>
          <a:prstGeom prst="irregularSeal2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Rectangle 5" descr=""/>
          <p:cNvPicPr/>
          <p:nvPr/>
        </p:nvPicPr>
        <p:blipFill>
          <a:blip r:embed="rId1"/>
          <a:stretch/>
        </p:blipFill>
        <p:spPr>
          <a:xfrm>
            <a:off x="1925640" y="103320"/>
            <a:ext cx="4803840" cy="1135080"/>
          </a:xfrm>
          <a:prstGeom prst="rect">
            <a:avLst/>
          </a:prstGeom>
          <a:ln w="0">
            <a:noFill/>
          </a:ln>
        </p:spPr>
      </p:pic>
      <p:pic>
        <p:nvPicPr>
          <p:cNvPr id="315" name="Rectangle 6" descr=""/>
          <p:cNvPicPr/>
          <p:nvPr/>
        </p:nvPicPr>
        <p:blipFill>
          <a:blip r:embed="rId2"/>
          <a:stretch/>
        </p:blipFill>
        <p:spPr>
          <a:xfrm>
            <a:off x="2011320" y="2462040"/>
            <a:ext cx="45054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1" descr="step 1 a.jpg"/>
          <p:cNvPicPr/>
          <p:nvPr/>
        </p:nvPicPr>
        <p:blipFill>
          <a:blip r:embed="rId1"/>
          <a:srcRect l="13246" t="14815" r="25832" b="18522"/>
          <a:stretch/>
        </p:blipFill>
        <p:spPr>
          <a:xfrm>
            <a:off x="1357200" y="928800"/>
            <a:ext cx="1643040" cy="1285920"/>
          </a:xfrm>
          <a:prstGeom prst="rect">
            <a:avLst/>
          </a:prstGeom>
          <a:ln w="9360">
            <a:solidFill>
              <a:srgbClr val="2c71ff"/>
            </a:solidFill>
            <a:miter/>
          </a:ln>
        </p:spPr>
      </p:pic>
      <p:pic>
        <p:nvPicPr>
          <p:cNvPr id="317" name="Rectangle 2" descr=""/>
          <p:cNvPicPr/>
          <p:nvPr/>
        </p:nvPicPr>
        <p:blipFill>
          <a:blip r:embed="rId2"/>
          <a:stretch/>
        </p:blipFill>
        <p:spPr>
          <a:xfrm>
            <a:off x="3029040" y="42840"/>
            <a:ext cx="2822400" cy="1828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Step 1 b.jpg"/>
          <p:cNvPicPr/>
          <p:nvPr/>
        </p:nvPicPr>
        <p:blipFill>
          <a:blip r:embed="rId3"/>
          <a:stretch/>
        </p:blipFill>
        <p:spPr>
          <a:xfrm>
            <a:off x="6227640" y="357120"/>
            <a:ext cx="2617920" cy="3714840"/>
          </a:xfrm>
          <a:prstGeom prst="rect">
            <a:avLst/>
          </a:prstGeom>
          <a:ln w="9360">
            <a:solidFill>
              <a:srgbClr val="ff388c"/>
            </a:solidFill>
            <a:miter/>
          </a:ln>
        </p:spPr>
      </p:pic>
      <p:pic>
        <p:nvPicPr>
          <p:cNvPr id="319" name="Picture 4" descr="Step 1 c.jpg"/>
          <p:cNvPicPr/>
          <p:nvPr/>
        </p:nvPicPr>
        <p:blipFill>
          <a:blip r:embed="rId4"/>
          <a:stretch/>
        </p:blipFill>
        <p:spPr>
          <a:xfrm>
            <a:off x="142920" y="2357280"/>
            <a:ext cx="3357360" cy="2421000"/>
          </a:xfrm>
          <a:prstGeom prst="rect">
            <a:avLst/>
          </a:prstGeom>
          <a:ln w="9360">
            <a:solidFill>
              <a:srgbClr val="d519ff"/>
            </a:solidFill>
            <a:miter/>
          </a:ln>
        </p:spPr>
      </p:pic>
      <p:pic>
        <p:nvPicPr>
          <p:cNvPr id="320" name="Picture 2" descr=""/>
          <p:cNvPicPr/>
          <p:nvPr/>
        </p:nvPicPr>
        <p:blipFill>
          <a:blip r:embed="rId5"/>
          <a:srcRect l="26297" t="21037" r="28287" b="4384"/>
          <a:stretch/>
        </p:blipFill>
        <p:spPr>
          <a:xfrm>
            <a:off x="3357720" y="1071720"/>
            <a:ext cx="2714400" cy="2786040"/>
          </a:xfrm>
          <a:prstGeom prst="rect">
            <a:avLst/>
          </a:prstGeom>
          <a:ln w="9360">
            <a:solidFill>
              <a:srgbClr val="ff2bd8"/>
            </a:solidFill>
            <a:miter/>
          </a:ln>
        </p:spPr>
      </p:pic>
      <p:pic>
        <p:nvPicPr>
          <p:cNvPr id="321" name="Picture 4" descr=""/>
          <p:cNvPicPr/>
          <p:nvPr/>
        </p:nvPicPr>
        <p:blipFill>
          <a:blip r:embed="rId6"/>
          <a:srcRect l="16632" t="44737" r="12630" b="17371"/>
          <a:stretch/>
        </p:blipFill>
        <p:spPr>
          <a:xfrm>
            <a:off x="5643720" y="4021200"/>
            <a:ext cx="3071520" cy="2631960"/>
          </a:xfrm>
          <a:prstGeom prst="rect">
            <a:avLst/>
          </a:prstGeom>
          <a:ln w="9360">
            <a:solidFill>
              <a:srgbClr val="e90062"/>
            </a:solidFill>
            <a:miter/>
          </a:ln>
        </p:spPr>
      </p:pic>
      <p:pic>
        <p:nvPicPr>
          <p:cNvPr id="322" name="Picture 8" descr=""/>
          <p:cNvPicPr/>
          <p:nvPr/>
        </p:nvPicPr>
        <p:blipFill>
          <a:blip r:embed="rId7"/>
          <a:srcRect l="11451" t="16030" r="44179" b="17556"/>
          <a:stretch/>
        </p:blipFill>
        <p:spPr>
          <a:xfrm>
            <a:off x="2071800" y="4000680"/>
            <a:ext cx="2857320" cy="2673000"/>
          </a:xfrm>
          <a:prstGeom prst="rect">
            <a:avLst/>
          </a:prstGeom>
          <a:ln w="9360">
            <a:solidFill>
              <a:srgbClr val="ff88ba"/>
            </a:solidFill>
            <a:miter/>
          </a:ln>
        </p:spPr>
      </p:pic>
      <p:sp>
        <p:nvSpPr>
          <p:cNvPr id="323" name="Double Wave 8"/>
          <p:cNvSpPr/>
          <p:nvPr/>
        </p:nvSpPr>
        <p:spPr>
          <a:xfrm>
            <a:off x="3000240" y="3429000"/>
            <a:ext cx="2786040" cy="1071720"/>
          </a:xfrm>
          <a:custGeom>
            <a:avLst/>
            <a:gdLst>
              <a:gd name="textAreaLeft" fmla="*/ 0 w 2786040"/>
              <a:gd name="textAreaRight" fmla="*/ 2786400 w 2786040"/>
              <a:gd name="textAreaTop" fmla="*/ 133920 h 1071720"/>
              <a:gd name="textAreaBottom" fmla="*/ 93780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tart St Basils Cathedral by doing the 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1" descr=""/>
          <p:cNvPicPr/>
          <p:nvPr/>
        </p:nvPicPr>
        <p:blipFill>
          <a:blip r:embed="rId1"/>
          <a:stretch/>
        </p:blipFill>
        <p:spPr>
          <a:xfrm>
            <a:off x="3029040" y="42840"/>
            <a:ext cx="2822400" cy="1828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"/>
          <p:cNvPicPr/>
          <p:nvPr/>
        </p:nvPicPr>
        <p:blipFill>
          <a:blip r:embed="rId2"/>
          <a:stretch/>
        </p:blipFill>
        <p:spPr>
          <a:xfrm>
            <a:off x="733320" y="1081080"/>
            <a:ext cx="2670120" cy="1633680"/>
          </a:xfrm>
          <a:prstGeom prst="rect">
            <a:avLst/>
          </a:prstGeom>
          <a:ln w="12600">
            <a:solidFill>
              <a:srgbClr val="e90062"/>
            </a:solidFill>
            <a:miter/>
          </a:ln>
        </p:spPr>
      </p:pic>
      <p:pic>
        <p:nvPicPr>
          <p:cNvPr id="326" name="Picture 4" descr=""/>
          <p:cNvPicPr/>
          <p:nvPr/>
        </p:nvPicPr>
        <p:blipFill>
          <a:blip r:embed="rId3"/>
          <a:stretch/>
        </p:blipFill>
        <p:spPr>
          <a:xfrm>
            <a:off x="5929200" y="428760"/>
            <a:ext cx="3073680" cy="1923840"/>
          </a:xfrm>
          <a:prstGeom prst="rect">
            <a:avLst/>
          </a:prstGeom>
          <a:ln w="12600">
            <a:solidFill>
              <a:srgbClr val="2c71ff"/>
            </a:solidFill>
            <a:miter/>
          </a:ln>
        </p:spPr>
      </p:pic>
      <p:pic>
        <p:nvPicPr>
          <p:cNvPr id="327" name="Picture 5" descr=""/>
          <p:cNvPicPr/>
          <p:nvPr/>
        </p:nvPicPr>
        <p:blipFill>
          <a:blip r:embed="rId4"/>
          <a:stretch/>
        </p:blipFill>
        <p:spPr>
          <a:xfrm>
            <a:off x="4643280" y="4429080"/>
            <a:ext cx="4349880" cy="2122560"/>
          </a:xfrm>
          <a:prstGeom prst="rect">
            <a:avLst/>
          </a:prstGeom>
          <a:ln w="12600">
            <a:solidFill>
              <a:srgbClr val="ff2bd8"/>
            </a:solidFill>
            <a:miter/>
          </a:ln>
        </p:spPr>
      </p:pic>
      <p:pic>
        <p:nvPicPr>
          <p:cNvPr id="328" name="Picture 6" descr=""/>
          <p:cNvPicPr/>
          <p:nvPr/>
        </p:nvPicPr>
        <p:blipFill>
          <a:blip r:embed="rId5"/>
          <a:stretch/>
        </p:blipFill>
        <p:spPr>
          <a:xfrm>
            <a:off x="357120" y="3357720"/>
            <a:ext cx="3533760" cy="2527200"/>
          </a:xfrm>
          <a:prstGeom prst="rect">
            <a:avLst/>
          </a:prstGeom>
          <a:ln w="9360">
            <a:solidFill>
              <a:srgbClr val="e90062"/>
            </a:solidFill>
            <a:miter/>
          </a:ln>
        </p:spPr>
      </p:pic>
      <p:sp>
        <p:nvSpPr>
          <p:cNvPr id="329" name="Oval Callout 6"/>
          <p:cNvSpPr/>
          <p:nvPr/>
        </p:nvSpPr>
        <p:spPr>
          <a:xfrm>
            <a:off x="1643040" y="2571840"/>
            <a:ext cx="2571840" cy="1714320"/>
          </a:xfrm>
          <a:prstGeom prst="wedgeEllipseCallout">
            <a:avLst>
              <a:gd name="adj1" fmla="val -39092"/>
              <a:gd name="adj2" fmla="val 48101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Copy on the tower over from the 3D warehouse and then start doing the others off the shape of 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6"/>
          <a:stretch/>
        </p:blipFill>
        <p:spPr>
          <a:xfrm>
            <a:off x="5786280" y="2071800"/>
            <a:ext cx="3029040" cy="2309760"/>
          </a:xfrm>
          <a:prstGeom prst="rect">
            <a:avLst/>
          </a:prstGeom>
          <a:ln w="0">
            <a:noFill/>
          </a:ln>
        </p:spPr>
      </p:pic>
      <p:sp>
        <p:nvSpPr>
          <p:cNvPr id="331" name="Flowchart: Multidocument 9"/>
          <p:cNvSpPr/>
          <p:nvPr/>
        </p:nvSpPr>
        <p:spPr>
          <a:xfrm>
            <a:off x="3857760" y="1214280"/>
            <a:ext cx="1928520" cy="1643400"/>
          </a:xfrm>
          <a:prstGeom prst="flowChartMultidocumen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tart building it u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3235320" cy="2000520"/>
          </a:xfrm>
          <a:prstGeom prst="rect">
            <a:avLst/>
          </a:prstGeom>
          <a:ln w="12600">
            <a:solidFill>
              <a:srgbClr val="e90062"/>
            </a:solidFill>
            <a:miter/>
          </a:ln>
        </p:spPr>
      </p:pic>
      <p:pic>
        <p:nvPicPr>
          <p:cNvPr id="333" name="Rectangle 2" descr=""/>
          <p:cNvPicPr/>
          <p:nvPr/>
        </p:nvPicPr>
        <p:blipFill>
          <a:blip r:embed="rId2"/>
          <a:stretch/>
        </p:blipFill>
        <p:spPr>
          <a:xfrm>
            <a:off x="3029040" y="42840"/>
            <a:ext cx="2822400" cy="18288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3"/>
          <a:stretch/>
        </p:blipFill>
        <p:spPr>
          <a:xfrm>
            <a:off x="5500800" y="142920"/>
            <a:ext cx="3408120" cy="2176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"/>
          <p:cNvPicPr/>
          <p:nvPr/>
        </p:nvPicPr>
        <p:blipFill>
          <a:blip r:embed="rId4"/>
          <a:stretch/>
        </p:blipFill>
        <p:spPr>
          <a:xfrm>
            <a:off x="2143080" y="1943280"/>
            <a:ext cx="3214800" cy="1914480"/>
          </a:xfrm>
          <a:prstGeom prst="rect">
            <a:avLst/>
          </a:prstGeom>
          <a:ln w="0">
            <a:noFill/>
          </a:ln>
        </p:spPr>
      </p:pic>
      <p:sp>
        <p:nvSpPr>
          <p:cNvPr id="336" name="Flowchart: Internal Storage 7"/>
          <p:cNvSpPr/>
          <p:nvPr/>
        </p:nvSpPr>
        <p:spPr>
          <a:xfrm>
            <a:off x="285840" y="3714840"/>
            <a:ext cx="4786200" cy="785880"/>
          </a:xfrm>
          <a:prstGeom prst="flowChartInternalStorag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o tutorial for the onion d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Frame 9"/>
          <p:cNvSpPr/>
          <p:nvPr/>
        </p:nvSpPr>
        <p:spPr>
          <a:xfrm>
            <a:off x="5072040" y="2071800"/>
            <a:ext cx="2428920" cy="1357200"/>
          </a:xfrm>
          <a:prstGeom prst="pi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tart doing the d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7" descr=""/>
          <p:cNvPicPr/>
          <p:nvPr/>
        </p:nvPicPr>
        <p:blipFill>
          <a:blip r:embed="rId5"/>
          <a:stretch/>
        </p:blipFill>
        <p:spPr>
          <a:xfrm>
            <a:off x="785880" y="4357800"/>
            <a:ext cx="3814560" cy="2319120"/>
          </a:xfrm>
          <a:prstGeom prst="rect">
            <a:avLst/>
          </a:prstGeom>
          <a:ln w="0">
            <a:noFill/>
          </a:ln>
        </p:spPr>
      </p:pic>
      <p:pic>
        <p:nvPicPr>
          <p:cNvPr id="339" name="Frame 11" descr=""/>
          <p:cNvPicPr/>
          <p:nvPr/>
        </p:nvPicPr>
        <p:blipFill>
          <a:blip r:embed="rId6"/>
          <a:stretch/>
        </p:blipFill>
        <p:spPr>
          <a:xfrm>
            <a:off x="4950000" y="3809880"/>
            <a:ext cx="4022640" cy="2730600"/>
          </a:xfrm>
          <a:prstGeom prst="rect">
            <a:avLst/>
          </a:prstGeom>
          <a:ln w="0">
            <a:noFill/>
          </a:ln>
        </p:spPr>
      </p:pic>
      <p:sp>
        <p:nvSpPr>
          <p:cNvPr id="340" name="Double Wave 12"/>
          <p:cNvSpPr/>
          <p:nvPr/>
        </p:nvSpPr>
        <p:spPr>
          <a:xfrm>
            <a:off x="428760" y="250020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9000 h 71640"/>
              <a:gd name="textAreaBottom" fmla="*/ 63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3786120" cy="3160440"/>
          </a:xfrm>
          <a:prstGeom prst="rect">
            <a:avLst/>
          </a:prstGeom>
          <a:ln w="0">
            <a:noFill/>
          </a:ln>
        </p:spPr>
      </p:pic>
      <p:pic>
        <p:nvPicPr>
          <p:cNvPr id="342" name="Rectangle 2" descr=""/>
          <p:cNvPicPr/>
          <p:nvPr/>
        </p:nvPicPr>
        <p:blipFill>
          <a:blip r:embed="rId2"/>
          <a:stretch/>
        </p:blipFill>
        <p:spPr>
          <a:xfrm>
            <a:off x="3029040" y="42840"/>
            <a:ext cx="2822400" cy="1828800"/>
          </a:xfrm>
          <a:prstGeom prst="rect">
            <a:avLst/>
          </a:prstGeom>
          <a:ln w="0">
            <a:noFill/>
          </a:ln>
        </p:spPr>
      </p:pic>
      <p:sp>
        <p:nvSpPr>
          <p:cNvPr id="343" name="Cube 3"/>
          <p:cNvSpPr/>
          <p:nvPr/>
        </p:nvSpPr>
        <p:spPr>
          <a:xfrm>
            <a:off x="5286240" y="1928880"/>
            <a:ext cx="2857680" cy="1071360"/>
          </a:xfrm>
          <a:prstGeom prst="cube">
            <a:avLst>
              <a:gd name="adj" fmla="val 250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ow to the middle 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3"/>
          <a:stretch/>
        </p:blipFill>
        <p:spPr>
          <a:xfrm>
            <a:off x="3929040" y="3500280"/>
            <a:ext cx="4357800" cy="2926080"/>
          </a:xfrm>
          <a:prstGeom prst="rect">
            <a:avLst/>
          </a:prstGeom>
          <a:ln w="0">
            <a:noFill/>
          </a:ln>
        </p:spPr>
      </p:pic>
      <p:sp>
        <p:nvSpPr>
          <p:cNvPr id="345" name="Pentagon 7"/>
          <p:cNvSpPr/>
          <p:nvPr/>
        </p:nvSpPr>
        <p:spPr>
          <a:xfrm>
            <a:off x="571680" y="4572000"/>
            <a:ext cx="3000240" cy="1500120"/>
          </a:xfrm>
          <a:custGeom>
            <a:avLst/>
            <a:gdLst>
              <a:gd name="textAreaLeft" fmla="*/ 0 w 3000240"/>
              <a:gd name="textAreaRight" fmla="*/ 3000600 w 300024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ull up around the edge a bit higher than the floor the dome columns are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1" descr=""/>
          <p:cNvPicPr/>
          <p:nvPr/>
        </p:nvPicPr>
        <p:blipFill>
          <a:blip r:embed="rId1"/>
          <a:stretch/>
        </p:blipFill>
        <p:spPr>
          <a:xfrm>
            <a:off x="3029040" y="42840"/>
            <a:ext cx="2822400" cy="1828800"/>
          </a:xfrm>
          <a:prstGeom prst="rect">
            <a:avLst/>
          </a:prstGeom>
          <a:ln w="0">
            <a:noFill/>
          </a:ln>
        </p:spPr>
      </p:pic>
      <p:sp>
        <p:nvSpPr>
          <p:cNvPr id="347" name="Action Button: Home 2">
            <a:hlinkClick r:id="" action="ppaction://hlinkshowjump?jump=firstslide"/>
          </p:cNvPr>
          <p:cNvSpPr/>
          <p:nvPr/>
        </p:nvSpPr>
        <p:spPr>
          <a:xfrm>
            <a:off x="6000840" y="1000080"/>
            <a:ext cx="1928880" cy="1500120"/>
          </a:xfrm>
          <a:custGeom>
            <a:avLst/>
            <a:gdLst>
              <a:gd name="textAreaLeft" fmla="*/ 97200 w 1928880"/>
              <a:gd name="textAreaRight" fmla="*/ 1831680 w 1928880"/>
              <a:gd name="textAreaTop" fmla="*/ 97200 h 1500120"/>
              <a:gd name="textAreaBottom" fmla="*/ 1402920 h 150012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13886" y="3837"/>
                </a:moveTo>
                <a:lnTo>
                  <a:pt x="16462" y="6448"/>
                </a:lnTo>
                <a:lnTo>
                  <a:pt x="16462" y="4707"/>
                </a:lnTo>
                <a:lnTo>
                  <a:pt x="18238" y="4707"/>
                </a:lnTo>
                <a:lnTo>
                  <a:pt x="18238" y="8224"/>
                </a:lnTo>
                <a:lnTo>
                  <a:pt x="20849" y="10800"/>
                </a:lnTo>
                <a:lnTo>
                  <a:pt x="19195" y="10800"/>
                </a:lnTo>
                <a:lnTo>
                  <a:pt x="19195" y="17989"/>
                </a:lnTo>
                <a:lnTo>
                  <a:pt x="8577" y="17989"/>
                </a:lnTo>
                <a:lnTo>
                  <a:pt x="8577" y="10800"/>
                </a:lnTo>
                <a:lnTo>
                  <a:pt x="6923" y="10800"/>
                </a:lnTo>
                <a:close/>
              </a:path>
              <a:path fill="darkenLess" w="27772" h="21600">
                <a:moveTo>
                  <a:pt x="16462" y="6448"/>
                </a:moveTo>
                <a:lnTo>
                  <a:pt x="16462" y="4707"/>
                </a:lnTo>
                <a:lnTo>
                  <a:pt x="18238" y="4707"/>
                </a:lnTo>
                <a:lnTo>
                  <a:pt x="18238" y="8224"/>
                </a:lnTo>
                <a:close/>
              </a:path>
              <a:path fill="darkenLess" w="27772" h="21600">
                <a:moveTo>
                  <a:pt x="12963" y="14299"/>
                </a:moveTo>
                <a:lnTo>
                  <a:pt x="14809" y="14299"/>
                </a:lnTo>
                <a:lnTo>
                  <a:pt x="14809" y="17989"/>
                </a:lnTo>
                <a:lnTo>
                  <a:pt x="19195" y="17989"/>
                </a:lnTo>
                <a:lnTo>
                  <a:pt x="19195" y="10800"/>
                </a:lnTo>
                <a:lnTo>
                  <a:pt x="8577" y="10800"/>
                </a:lnTo>
                <a:lnTo>
                  <a:pt x="8577" y="17989"/>
                </a:lnTo>
                <a:lnTo>
                  <a:pt x="12963" y="17989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tart adding colour to your ho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2"/>
          <a:stretch/>
        </p:blipFill>
        <p:spPr>
          <a:xfrm>
            <a:off x="285840" y="1000080"/>
            <a:ext cx="4911480" cy="40006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4500720" y="2967120"/>
            <a:ext cx="4643280" cy="3890880"/>
          </a:xfrm>
          <a:prstGeom prst="rect">
            <a:avLst/>
          </a:prstGeom>
          <a:ln w="0">
            <a:noFill/>
          </a:ln>
        </p:spPr>
      </p:pic>
      <p:sp>
        <p:nvSpPr>
          <p:cNvPr id="350" name="Action Button: Home 5">
            <a:hlinkClick r:id="" action="ppaction://hlinkshowjump?jump=firstslide"/>
          </p:cNvPr>
          <p:cNvSpPr/>
          <p:nvPr/>
        </p:nvSpPr>
        <p:spPr>
          <a:xfrm>
            <a:off x="1357200" y="5072040"/>
            <a:ext cx="1928880" cy="1500120"/>
          </a:xfrm>
          <a:custGeom>
            <a:avLst/>
            <a:gdLst>
              <a:gd name="textAreaLeft" fmla="*/ 97200 w 1928880"/>
              <a:gd name="textAreaRight" fmla="*/ 1831680 w 1928880"/>
              <a:gd name="textAreaTop" fmla="*/ 97200 h 1500120"/>
              <a:gd name="textAreaBottom" fmla="*/ 1402920 h 150012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13886" y="3837"/>
                </a:moveTo>
                <a:lnTo>
                  <a:pt x="16462" y="6448"/>
                </a:lnTo>
                <a:lnTo>
                  <a:pt x="16462" y="4707"/>
                </a:lnTo>
                <a:lnTo>
                  <a:pt x="18238" y="4707"/>
                </a:lnTo>
                <a:lnTo>
                  <a:pt x="18238" y="8224"/>
                </a:lnTo>
                <a:lnTo>
                  <a:pt x="20849" y="10800"/>
                </a:lnTo>
                <a:lnTo>
                  <a:pt x="19195" y="10800"/>
                </a:lnTo>
                <a:lnTo>
                  <a:pt x="19195" y="17989"/>
                </a:lnTo>
                <a:lnTo>
                  <a:pt x="8577" y="17989"/>
                </a:lnTo>
                <a:lnTo>
                  <a:pt x="8577" y="10800"/>
                </a:lnTo>
                <a:lnTo>
                  <a:pt x="6923" y="10800"/>
                </a:lnTo>
                <a:close/>
              </a:path>
              <a:path fill="darkenLess" w="27772" h="21600">
                <a:moveTo>
                  <a:pt x="16462" y="6448"/>
                </a:moveTo>
                <a:lnTo>
                  <a:pt x="16462" y="4707"/>
                </a:lnTo>
                <a:lnTo>
                  <a:pt x="18238" y="4707"/>
                </a:lnTo>
                <a:lnTo>
                  <a:pt x="18238" y="8224"/>
                </a:lnTo>
                <a:close/>
              </a:path>
              <a:path fill="darkenLess" w="27772" h="21600">
                <a:moveTo>
                  <a:pt x="12963" y="14299"/>
                </a:moveTo>
                <a:lnTo>
                  <a:pt x="14809" y="14299"/>
                </a:lnTo>
                <a:lnTo>
                  <a:pt x="14809" y="17989"/>
                </a:lnTo>
                <a:lnTo>
                  <a:pt x="19195" y="17989"/>
                </a:lnTo>
                <a:lnTo>
                  <a:pt x="19195" y="10800"/>
                </a:lnTo>
                <a:lnTo>
                  <a:pt x="8577" y="10800"/>
                </a:lnTo>
                <a:lnTo>
                  <a:pt x="8577" y="17989"/>
                </a:lnTo>
                <a:lnTo>
                  <a:pt x="12963" y="17989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Keep adding till you are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1" descr=""/>
          <p:cNvPicPr/>
          <p:nvPr/>
        </p:nvPicPr>
        <p:blipFill>
          <a:blip r:embed="rId1"/>
          <a:stretch/>
        </p:blipFill>
        <p:spPr>
          <a:xfrm>
            <a:off x="3029040" y="42840"/>
            <a:ext cx="2822400" cy="1828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" descr=""/>
          <p:cNvPicPr/>
          <p:nvPr/>
        </p:nvPicPr>
        <p:blipFill>
          <a:blip r:embed="rId2"/>
          <a:srcRect l="915" t="2637" r="12842" b="1135"/>
          <a:stretch/>
        </p:blipFill>
        <p:spPr>
          <a:xfrm>
            <a:off x="928800" y="1071720"/>
            <a:ext cx="707220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1" descr=""/>
          <p:cNvPicPr/>
          <p:nvPr/>
        </p:nvPicPr>
        <p:blipFill>
          <a:blip r:embed="rId1"/>
          <a:stretch/>
        </p:blipFill>
        <p:spPr>
          <a:xfrm>
            <a:off x="341280" y="1609560"/>
            <a:ext cx="8802720" cy="34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9:52Z</dcterms:created>
  <dc:creator>Diocesan School for Girls</dc:creator>
  <dc:description/>
  <dc:language>en-US</dc:language>
  <cp:lastModifiedBy>Diocesan School for Girls</cp:lastModifiedBy>
  <dcterms:modified xsi:type="dcterms:W3CDTF">2009-09-09T07:55:31Z</dcterms:modified>
  <cp:revision>44</cp:revision>
  <dc:subject/>
  <dc:title>Slide 1</dc:title>
</cp:coreProperties>
</file>